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6280"/>
            <a:ext cx="49658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13D-C8D7-45EE-BF7A-C58B29444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6F2-4A07-466B-9A5C-6BE0E751C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0EF2-022D-40AA-ABB0-08D59AB2D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C837-D890-4419-8BB9-4E55C95D2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527-A994-470C-8398-4071100E4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2D4-6DEB-4149-8F86-6B6269042E8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AF6-FA96-4043-917E-3B248C1A0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B74B-0566-4896-9BBA-91F867C76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7CA-477D-44CF-95C9-6CDA6630D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2634-4BF5-46D4-B3C2-D4C6ADA98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4642-B9B1-416E-9D02-460BD7936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8C8-BC92-41D8-839C-581DD9D2A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B000-B5AF-4B61-B076-3586466AA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0A1-3453-41CF-BDE4-24BFA60E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95D-CD77-4C9F-9493-70ED54DA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57C-F349-4CA9-84A4-D70D89E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42D-C833-440A-B6E6-25FA7DD1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D8F-7BCF-46DA-85B3-F9E5AF10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F03-6ADE-46AE-8CC5-6152B017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C7F-F03A-4C4A-92E0-E868AEA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914-6827-406B-86D4-CDC2DD9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7C7-5E4D-418B-95F3-190ED06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590-67DA-49C3-AAD5-DA6CDF9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F71-4983-473B-B080-FF2FC93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7B0-0320-4D8F-8BD3-52F4B4E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523-A898-4E6B-8B1D-FC3B0A3F69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679-E66F-4B32-81AF-21895010C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105520" y="1523880"/>
            <a:ext cx="3429000" cy="47246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09480" y="609480"/>
            <a:ext cx="5029200" cy="56390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ss-border Insolvency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SB Key Attributes of Effective Resolution Reg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4220640"/>
            <a:ext cx="708660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 H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üp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Role of Deposit Insurance in Bank Resolution Framework – Lessons from the Financial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November 13-16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JODHPUR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sbLogoH126"/>
          <p:cNvPicPr/>
          <p:nvPr/>
        </p:nvPicPr>
        <p:blipFill>
          <a:blip r:embed="rId1"/>
          <a:stretch/>
        </p:blipFill>
        <p:spPr>
          <a:xfrm>
            <a:off x="5791320" y="609480"/>
            <a:ext cx="27432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resolv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115920" y="1457280"/>
            <a:ext cx="8766000" cy="52484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7BA-87C7-492E-ABE4-D01BADE97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ddressing cross-border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8" descr=""/>
          <p:cNvPicPr/>
          <p:nvPr/>
        </p:nvPicPr>
        <p:blipFill>
          <a:blip r:embed="rId1"/>
          <a:stretch/>
        </p:blipFill>
        <p:spPr>
          <a:xfrm>
            <a:off x="426960" y="1268280"/>
            <a:ext cx="827244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0983-5C42-44DC-8500-7287ACC7F6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ay forward -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433440" y="1603440"/>
            <a:ext cx="8345520" cy="45226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2BA-093F-40F1-802F-5156091C3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SB SIFI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244440" y="1127160"/>
            <a:ext cx="8313840" cy="590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 multipronged policy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103400" y="1395360"/>
            <a:ext cx="6718320" cy="51022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DBE-11D4-41DE-8608-18A84C1BE1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Policy measures on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253360" cy="579744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9E3A-E4DA-4F6C-AB15-DAE25B90B8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067-58BB-4B06-8777-E9F6E11AB9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1" descr=""/>
          <p:cNvPicPr/>
          <p:nvPr/>
        </p:nvPicPr>
        <p:blipFill>
          <a:blip r:embed="rId1"/>
          <a:stretch/>
        </p:blipFill>
        <p:spPr>
          <a:xfrm>
            <a:off x="347760" y="1328760"/>
            <a:ext cx="8485200" cy="46213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6E1-34DA-4A73-8826-42C8008512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4D01-EDDC-49B8-AA39-C61850050B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C66F-2E6D-47E1-B848-091921CE28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5" descr=""/>
          <p:cNvPicPr/>
          <p:nvPr/>
        </p:nvPicPr>
        <p:blipFill>
          <a:blip r:embed="rId1"/>
          <a:stretch/>
        </p:blipFill>
        <p:spPr>
          <a:xfrm>
            <a:off x="0" y="66600"/>
            <a:ext cx="9217080" cy="677232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50C-73B8-415B-A3DA-60F022478F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68360" y="134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Global SI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1:39Z</dcterms:created>
  <dc:creator>Eva Hüpkes</dc:creator>
  <dc:description/>
  <dc:language>en-US</dc:language>
  <cp:lastModifiedBy>Eva Hüpkes</cp:lastModifiedBy>
  <dcterms:modified xsi:type="dcterms:W3CDTF">2011-11-06T21:30:06Z</dcterms:modified>
  <cp:revision>51</cp:revision>
  <dc:subject/>
  <dc:title>SIFI Resolution</dc:title>
</cp:coreProperties>
</file>