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F158-5DD0-4606-BDBD-8CED0B49F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850A-59FC-4474-BA9A-D9938BC7F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785-6AA8-432D-A46B-C87349BE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136-E9BC-4EA7-AEC1-780166C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C29-0606-4CA0-96D5-43E52B28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881-D232-48D0-8BC4-0F60190D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78C-7FEF-4FBF-8F6E-14558BE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3CF-ECD6-4E3D-9F89-83F513C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BE7-EE39-419C-B905-5501271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DD2-3641-400C-9F66-F38F8734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2E6-FE81-4353-91C8-A35AA4A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3E4-A869-4555-926B-AB924B3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5B0-1B99-4310-AF2F-AEA7C09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AB9-7D87-4E12-B75F-3FB3532C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5511-542D-4BED-ADAF-04B59DF3B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8227-00D4-4354-92D6-2CDC5CFA13F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ors’ Respons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sis Framework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oven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000680" y="5214960"/>
            <a:ext cx="1109520" cy="145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2F1-73A4-4081-9E17-769C07FEF9F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actors Leading to th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on of regulator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’s Policy 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supervision and reg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systemic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DA4-13A0-46AF-807F-A8334BB6536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00000"/>
                </a:solidFill>
                <a:latin typeface="Calibri"/>
              </a:rPr>
              <a:t>Key Factors Leading to the Crisis: </a:t>
            </a: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Erosion of Regulatory Stand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Capital Standards/High Leve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mounts, quality and cyclicality of cap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Liquidity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High levels of uninsured short-term funding susceptible to pan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Deposit insurance is a necessary, but not a sufficient cond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Underwriting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down payments, weak documentation, etc. fuel excessive lending and housing bub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Consumer, business and government deb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Fuels boom-to-bust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DED-420B-48C0-98CF-6E034AAF257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Factors Leading to the Crisis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uctural Weakne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, Lack of 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trust contributes to pa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bility to differentiate between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market instruments contribute to the downward spiral in the value of collateral once the bubble bur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ps in Financial Regulatory Overs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 banking system – MMMFs, SIV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dependencies/Systemic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38A-E09E-43B5-954E-A0D8836C175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Policy Agend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Bank Supervision/Reg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standards, Liquidit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cker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/Investo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ress Systemic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ic risk regul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regulatory standards for SIF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effective bank resolution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cross border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clearing houses for OTC deriva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BF0-E56E-4745-8152-9ADD4703A12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Policy Agend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e Market Disci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ranspar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Too-Big-To-F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Refor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support for Fannie/Fredd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an Modifications/ Foreclo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5E0-4E2F-421A-A519-3B081C5E879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are at the early stages of financial reform implementation – unclear whether long-term or short-term perspectives will prev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will be many unintended consequences as reform measures are implemen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likely result will be a smaller, more expensive, financial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ncial crises will remain a fact of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s will need sufficient authority and flexibility to deal with these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360C-3A7E-4C49-8AA4-A0AB8E8BD6D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13:47Z</dcterms:created>
  <dc:creator>khajra</dc:creator>
  <dc:description/>
  <dc:language>en-US</dc:language>
  <cp:lastModifiedBy>John Bovenzi</cp:lastModifiedBy>
  <dcterms:modified xsi:type="dcterms:W3CDTF">2011-11-08T16:44:56Z</dcterms:modified>
  <cp:revision>20</cp:revision>
  <dc:subject/>
  <dc:title>Slide 1</dc:title>
</cp:coreProperties>
</file>