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789-1B39-486E-8263-DBEC02CC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372-5200-473D-8766-6EC4F75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B7A-FE72-41A9-A234-0F876C7B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8F5-DB74-4A70-8533-9E07700F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82E-C1B0-497F-8D72-1C7AF3E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AF8-8053-40A5-9754-D049DAA1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F89-8326-466E-80D7-2929E6A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A24-CEF3-4DD3-B513-BD8BBF2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6D8-1B03-4DC1-A3A4-B4F5A1A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CCC-6312-4E66-98A2-3751568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AB1-56A6-412E-B2BB-D00797B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9A4-280E-4D20-BC35-C434B2B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F7F3-8F83-4D91-BC3B-47054D915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91A5-F922-4BD2-A4D0-4C3BBE37CF5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B91-A63F-4605-9864-265C8F9C436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nk Resolution Framework: International 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614920" y="5229360"/>
            <a:ext cx="3529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jay Desh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International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DIC -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350-A060-467C-A0FD-4B9D46EC61C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1116000" y="836640"/>
            <a:ext cx="3960720" cy="4032360"/>
          </a:xfrm>
          <a:prstGeom prst="ellipse">
            <a:avLst/>
          </a:prstGeom>
          <a:noFill/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635280" y="836640"/>
            <a:ext cx="4106880" cy="4030560"/>
          </a:xfrm>
          <a:prstGeom prst="ellipse">
            <a:avLst/>
          </a:prstGeom>
          <a:noFill/>
          <a:ln w="139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268360" y="2276640"/>
            <a:ext cx="4248360" cy="4105080"/>
          </a:xfrm>
          <a:prstGeom prst="ellipse">
            <a:avLst/>
          </a:prstGeom>
          <a:noFill/>
          <a:ln w="139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03280" y="19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olvency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6000" y="1916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B’s Key Attributes for Bank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87640" y="4724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ing Compliance with Core Principles for Effective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3528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ADI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0" y="1341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Hoels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667640" y="141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796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mudini Haj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980-FBC7-4103-9CF0-643C42FB566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C2EAB-F5CD-4B40-A5CE-60186191F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1197000"/>
            <a:ext cx="845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ctober 200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, in issuing Core Principles for Banking Supervision, acknowledged that a carefully designed system of deposit insurance can contribute to public confidence in the financi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initiated drafting of Core Principles for Effective Deposit Insurance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 and IADI issued the final version of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, BCBS, EFDI and IMF established a Steering Committee for the development of a Methodology for Assessing Compliance with the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7099-371C-4539-B530-575842C984B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B14E2-85C5-456A-828E-E6DE2B208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977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96640"/>
            <a:ext cx="8256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bruar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Working Groups established to draft methodology. Members represented IADI, BCBS, EFDI, EC, IMF, and World B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d draft methodology with 120 members of IADI, EFDI, BC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ptember/ Octob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three pilot field t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zech Republic, India, and Mex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nsultation and feed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7 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tted Final Methodology to FSB Chairman Mario Drag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09C-58FF-4DF9-92B2-FC9ECC89134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204A9-68EF-43D8-870C-0610EA18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763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ch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Board of IMF supported the FS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o introduce a new policy area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sis Resolution and Deposit Insu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ril 201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B added Core Principles to its Compendi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12 Key  International Standards for S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book developed to guide Assessmen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iance with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– Sept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Assessment workshops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shington, D.C., Tirana, Albania, and Basel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B5F-97A8-465C-A9A1-7EDBC2DF74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Extensive Training &amp; Outreach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Assessment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F/ World Bank (Round 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and EFDI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ervisory agencies, central banks, and ministries of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ashington, D.C., and Basel, Switz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Assessment Worksh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ana, Alb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uja,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uala Lumpur, Mala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in America (TB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s at IADI and Regional Committee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9:01:00Z</dcterms:created>
  <dc:creator>khajra</dc:creator>
  <dc:description/>
  <dc:language>en-US</dc:language>
  <cp:lastModifiedBy>Kumudini Hajra</cp:lastModifiedBy>
  <dcterms:modified xsi:type="dcterms:W3CDTF">2011-11-05T09:01:15Z</dcterms:modified>
  <cp:revision>44</cp:revision>
  <dc:subject/>
  <dc:title>Slide 1</dc:title>
</cp:coreProperties>
</file>