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131050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131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09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4039920" y="0"/>
            <a:ext cx="30906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211040" y="706320"/>
            <a:ext cx="4709880" cy="353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8945280"/>
            <a:ext cx="309096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4039920" y="8945280"/>
            <a:ext cx="309060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7889-4BF6-4583-871F-AEEC41150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AF99-0BBA-4984-B349-C2DB4EFEF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BD3-FAFC-43B7-8CAD-73D6E863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263-7D29-4EB6-9D34-D9814493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485-CFA9-4B19-B778-5EB47932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D8D-3BAB-43D7-890E-34E2CF49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9EF6-4FD3-4D31-B564-78AF1D17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2D03-39ED-4672-9A24-3E32ADC1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193D-BB99-4DCF-84E7-BAF4F934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AD10-C137-412A-A559-0BE6BC75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FED3-0520-4C34-84B0-67AF1F13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5FF9-13A5-41FC-A697-7050489B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6B83-8135-4DC4-8CDF-4243D78A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02F-7A25-4314-8415-057486EE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3535-1966-4FB4-9EAA-0521C29B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038A-B9C5-44D1-86EF-895A7E40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18E2-DD0F-4407-8ACD-5F9F02E9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27DA-6BCF-435C-8C8E-65157849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F507-F7BB-4632-8FE2-C99C0DEB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5089B-125E-44CE-8A86-C025440B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F36D2-5385-4E04-A364-3245B5DE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687D2-3C07-4CE3-96CC-DD1D3C98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9957C8-C3B6-42BC-8393-5BC2F691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DB2A5-B1D3-46EC-8FDE-98296AA5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637A-A7D5-46A5-B48C-7D3E4C8D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FC047-D217-41C3-8E90-D798F21E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48FFB-CE0C-4862-ADA6-D5265FF8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A9650-D3A1-4BE9-9ED6-7F6DBCB4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4B33F-AE66-4F05-B018-63EC8BFA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0C85CE-FAB2-4795-948A-D7AEEC4A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B1B05-CE55-4F5A-8BF8-543D1B2B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310A1-6A5C-4A73-A00C-F370E232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B0AED-2540-4DA5-83A8-9EDF0AC1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26938-20E8-4715-8AB9-274E02B2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533F3-3E15-469C-9398-0A442F75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33BC-F9A9-44D7-877C-7BFFAE64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8E3FD-776F-4EF1-8ADB-13D40DA5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7C683-ECB9-4AE2-9FB1-CCF75DC8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5060A-C7A9-438C-B47D-0312BA7F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5588E-4E6F-4ED7-86FE-866539E4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6561E-E506-4FE8-8771-A2FEA73C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788EE-743A-418B-B80D-C612715D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A0742-6B9A-476C-9CFA-F96BE5F1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F9453-BB1C-48FD-A930-412F8373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95F1B-9946-427D-9CA7-AC4E5938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2E1A-1B1F-4229-9E57-FCD9434E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AAA-9403-4337-ACD7-015FA535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844-29C0-4535-A6A3-2D1D0A68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299A-A39C-4CEF-AB03-8D7CE478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7C3-2468-4784-9C4E-4F36C61C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12C2-C7BC-4E50-B5B6-F23D697AC5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FE65-6E9B-4500-8DE2-4ED462DD6E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56C0-0664-43FE-B865-C0D1047B9F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AA54-0D73-4309-94E0-4D4B08DC5C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981080"/>
            <a:ext cx="84582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ELEMENTS OF A BANK RESOLUTION FRAMEWORK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04920" y="44956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Georgia"/>
              </a:rPr>
              <a:t>Wouter Bossu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Georgia"/>
              </a:rPr>
              <a:t>IMF Legal Department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24456"/>
                </a:solidFill>
                <a:latin typeface="Georgia"/>
              </a:rPr>
              <a:t>The views expressed herein are those of the author and should not be attributed to the IMF, its Executive Board, or its management.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24456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24456"/>
                </a:solidFill>
                <a:latin typeface="Georgia"/>
              </a:rPr>
              <a:t>Jodhpur, India - 2011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7924680" y="56386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3. Design Features of Bank Resolution Framework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81080"/>
            <a:ext cx="8229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Institutional Aspec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lear designation and mandates of the bank resolution agenc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teraction with DGS?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here relevant, adequate coordination mechanisms with micro-prudential supervisor and central bank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learly defined role for MoF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oordination with Market and Competition Authorities may also be relevan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clus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orderly resolution of banks requires a specific legal framework that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lances private and public policy objectiv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vides a well-calibrated institutional set-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lows to restructure banks rapidly and flexib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rises robust supportive mechanisms that go beyond insolvenc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KEY TAKE-AWAY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nks are businesses of a very particular nature..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..which makes it difficult to resolve them under general insolvency law..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..and requires specific, carefully designed bank resolution framework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ROADMAP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300"/>
              </a:spcBef>
              <a:spcAft>
                <a:spcPts val="2999"/>
              </a:spcAft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ecific Nature of Bank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spcAft>
                <a:spcPts val="2999"/>
              </a:spcAft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blems with General Insolvency La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spcAft>
                <a:spcPts val="2999"/>
              </a:spcAft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sign Features of Bank Resolution Framework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1.Specific Nature of Bank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anks are different from ordinary commercial or industrial businesses for the following 4 reason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1. Liabilities—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y be short-term, to the public, insured (DGS), backstopped by other banks, or guaranteed by Sta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2. Assets—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ulnerable to rapid quality deterioration in case of insolvency of ban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3. Systemic Nature—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anks may be systematically relevant; their disorderly  failure would cause other banks to fai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4. Official Financial Support—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ten financial support from central bank and/or MoF, possibly combined with explicit or implicit back-up of DGS by the Sta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. 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Problems with General Insolvency Law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0476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General insolvency law is ill-suited to deal with ailing banks for the following reasons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reditor-driven procedures insufficiently internalize financial stability and fiscal cost concern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threshold for intervention is too lat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ankruptcy trustees have little understanding of nature of banks and connection with financial syste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solvency toolkit is too blun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utomatic and full moratorium rapidly destroys valu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engthy procedures cause public to distrust other banks, which may cause ru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4456"/>
                </a:solidFill>
                <a:latin typeface="Trebuchet MS"/>
              </a:rPr>
              <a:t>3. </a:t>
            </a:r>
            <a:r>
              <a:rPr b="1" lang="en-US" sz="2600" spc="-1" strike="noStrike">
                <a:solidFill>
                  <a:srgbClr val="424456"/>
                </a:solidFill>
                <a:latin typeface="Trebuchet MS"/>
              </a:rPr>
              <a:t>Design Features of Bank Resolution Frameworks</a:t>
            </a:r>
            <a:endParaRPr b="0" lang="en-US" sz="2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1199"/>
              </a:spcBef>
              <a:buClr>
                <a:srgbClr val="a04da3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Broader Public Policy Objectiv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ank resolution frameworks pursue essentially three public policy objectiv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nimizing financial instabi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nimizing fiscal cos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tisfying creditors according to their ran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public interest may justify infringing upon shareholder and creditors rights beyond what is typical in general insolvency law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1" lang="en-US" sz="2400" spc="-1" strike="noStrike">
                <a:solidFill>
                  <a:srgbClr val="424456"/>
                </a:solidFill>
                <a:latin typeface="Trebuchet MS"/>
              </a:rPr>
              <a:t>. Design Features of Bank Resolution Frameworks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752120"/>
            <a:ext cx="8229600" cy="48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11280" indent="-5040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Early Shift toward Official Contr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st bank resolution frameworks include mechanism to shift control over troubled bank to (non-judiciary) official sector before insolvency triggers are me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ch “official administration” regimes typically featur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267120" indent="-267120">
              <a:lnSpc>
                <a:spcPct val="80000"/>
              </a:lnSpc>
              <a:spcBef>
                <a:spcPts val="1800"/>
              </a:spcBef>
              <a:spcAft>
                <a:spcPts val="601"/>
              </a:spcAft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ppointment and steering by central bank/supervisory agency 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267120" indent="-26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based upon quantitative and/or qualitative trigger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267120" indent="-26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with mandate to assess the bank, restructure when possible, and prepare         for liquidation if unavoidable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267120" indent="-26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Replacement of board of directors, and sometimes also general assembly of shareholder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611280" indent="-5040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en-US" sz="2700" spc="-1" strike="noStrike">
                <a:solidFill>
                  <a:srgbClr val="424456"/>
                </a:solidFill>
                <a:latin typeface="Trebuchet MS"/>
              </a:rPr>
              <a:t>. Design Features of Bank Resolution Frameworks</a:t>
            </a:r>
            <a:endParaRPr b="0" lang="en-US" sz="27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159984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.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Flexible Resolution Too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dequate bank resolution frameworks include the following tools to resolve ailing bank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272880" indent="-2728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nsfer of Assets (including systemically relevant activities) and Liabilitie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272880" indent="-2728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ced Mergers (“shotgun wedding”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272880" indent="-2728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datory Private and Public Recapitalization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272880" indent="-2728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derly Liquidation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ome countries have also included mandatory debt restructuring in their tool ki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272880" indent="-2728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38086"/>
              </a:solidFill>
              <a:latin typeface="Georgia"/>
            </a:endParaRPr>
          </a:p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3. Design Features of Bank Resolution Framework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Supportive Mechanis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Legal underpinnings for official financial support in budget or other law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nteraction with DGS rules: may DGS “top up” P&amp;A?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Depositor preference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Flexible moratoria/stay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nsolvency protection for new financing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Protection for netting, financial contracts and collateral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Transfer mechanisms for financial contract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7:01:56Z</dcterms:created>
  <dc:creator>mhernandez</dc:creator>
  <dc:description/>
  <dc:language>en-US</dc:language>
  <cp:lastModifiedBy>Wbossu</cp:lastModifiedBy>
  <dcterms:modified xsi:type="dcterms:W3CDTF">2011-11-09T20:05:44Z</dcterms:modified>
  <cp:revision>64</cp:revision>
  <dc:subject/>
  <dc:title>ELEMENTS OF A BANK RESOLUTION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