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0D0-C754-43DA-8D6F-4E3B8669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043-4B49-40A0-9D53-4558558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D41-C41A-46D9-AA50-B457C675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756-E8CC-43C1-8159-C36A879D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BB8-C96A-4DB0-B811-1CBEAB88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AD7-6965-4C3E-A5CE-A6FA5D8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9CC-FA4F-4BBD-A067-9059764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374-BEE7-4141-8A5B-2DA0FEA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DF4-8FDA-4005-8940-4083667A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75B-D74C-4EF6-9B10-FDAFA82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5F5-5F71-4BA5-BD8B-BDA56BD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ACE-BBBF-4523-9E69-91D7910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94B7-EA7E-44DA-8FC4-A54842773F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D97B-D5F0-410E-996F-F05CD3BAE2A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asv.org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ssons from the Financial Crisis for Bank Resolution: Russia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kolay Evstratenko, DIA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42960" y="5072040"/>
            <a:ext cx="1109520" cy="145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4"/>
          <a:stretch/>
        </p:blipFill>
        <p:spPr>
          <a:xfrm>
            <a:off x="6443640" y="5300640"/>
            <a:ext cx="2158920" cy="109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7C5E-6B20-48D9-B7B5-3E7C16FC9CE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Fig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Rectangle 9"/>
          <p:cNvSpPr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nks where the Agency particip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bankruptcy prevention measures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Financial assistance to investors that purch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jority stake in a failing ban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14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Banks in which the Agency bec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sole sharehold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Purchase &amp; Assumption  (partial)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ted Projec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960-733F-4790-BF13-37F1EC115FC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Sources of Fu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Rectangle 8"/>
          <p:cNvSpPr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vate Investors’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Government Property Contribution (200 billion Rubles ≈ US$6.5 b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ank of Russia lo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posit Insurance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B52-7E4C-465E-854D-E6AE33DDAC4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Less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rom the Crisi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Rectangle 7"/>
          <p:cNvSpPr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posit insurer needs (should hav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 to respon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 to promptly reimburse deposi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a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l protection from lawsuits in the normal course of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, prompt and effective interactions with other safety-n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adequate funding (primary and secondary 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awareness of and confidence in the deposit insuranc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4B4-6609-4DDF-8A36-E780FE4336B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Less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rom the Crisi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Rectangle 6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features of resolution regime that help the deposit insurer to meet its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resolution regime for banks (financial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ated resolution authority responsible for exercising resolution powers – timely and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very and resolu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failure resolution tools both for preventing bank failures (such as bail-in mechanisms, living wills) and for resolving failed banks (including P&amp;A, bridge-bank, assisted mergers, capital injection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 for information sharing among safety-net participants at all stages of planning and implementation of recovery and resolu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4B3D-5205-4196-BECA-90B2355E23C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osit Insuranc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cow,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asv.org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C1C-9C02-4092-A903-88B821354E6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 (January) – Establishment of Deposit Insurance Agency (DIA) (pay-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 (August) – Function of liquidation of failed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 (October) – Function of prevention of bank failures (systemically important ba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902-42EA-4AE6-87AA-13CF6CA3CC9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osit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ctober 2008 the DI coverage was increased from 400,000 rubles to 700,000 r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surance was abo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 premium rate was decreased (liquidity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outs to insured depositors start within 14 days after banking license withdrawal by the Bank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ED9-A1E3-419B-99D3-6D784390DEC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posit Insuranc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3"/>
          <p:cNvSpPr/>
          <p:nvPr/>
        </p:nvSpPr>
        <p:spPr>
          <a:xfrm>
            <a:off x="395280" y="1700280"/>
            <a:ext cx="87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amount of insured deposits – 9798 billion rubles (≈ US$320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DIS member banks – 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osit Insurance Fund – 146 billion rubles (≈ US$4.9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rance coverage limit per depositor per bank – 700,000 rubles. (≈ US$23 thous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nsured events – 114 (58 in 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number of depositors of failed banks that received deposit insurance reimbursement  &gt; 350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amount of insured deposits in failed banks – 58 billion rubles (≈US$1.9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6078-A611-4485-8FD1-6E0C03A5B83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Failed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Text Box 7"/>
          <p:cNvSpPr/>
          <p:nvPr/>
        </p:nvSpPr>
        <p:spPr>
          <a:xfrm>
            <a:off x="684360" y="2133720"/>
            <a:ext cx="77072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s banking licen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oints provisional administr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the court to declare the bank insolvent/inv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770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urt appoints DIA a liquidator/receiver of the failed bank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84360" y="5229360"/>
            <a:ext cx="770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 as the receiver is accountable to the court, Central Bank and bank cr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5F3-52B4-402E-8984-9035FAD5AE1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of Failed Ban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Tasks of DIA as Rece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Text Box 7"/>
          <p:cNvSpPr/>
          <p:nvPr/>
        </p:nvSpPr>
        <p:spPr>
          <a:xfrm>
            <a:off x="611280" y="2073240"/>
            <a:ext cx="727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and approval of business plan and budget of receiv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3008160"/>
            <a:ext cx="727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and appraisal of the bank’s property, collection/liquidation of its assets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1280" y="3873600"/>
            <a:ext cx="7275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tion and acceptance of creditor claims, preparation of the register of creditor claims, settlements with creditor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11280" y="5157720"/>
            <a:ext cx="7273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s and progress reports on the course of receivership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11280" y="6093000"/>
            <a:ext cx="7275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ions and Li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CE3-1A00-4C17-A485-D4C6A633878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of Fail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nks: Fig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" name="Rectangle 6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640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 has been appointed as receiver in 271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6400" indent="-357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d liquidation proceedings - 161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6400" indent="-357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on liquidation proceedings – 11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8E2-B72F-41AA-837D-13FE9051B36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Rectangle 7"/>
          <p:cNvSpPr/>
          <p:nvPr/>
        </p:nvSpPr>
        <p:spPr>
          <a:xfrm>
            <a:off x="1187280" y="1844640"/>
            <a:ext cx="67788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gency participates in prevention of bankruptcy of a bank in cas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ic importance of a failing bank for the national economy in general or for a particula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importance of a ba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-effectiveness for the Deposit Insurance Fund of financial rehabilitation in comparison to bankruptcy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38B4-0352-47D8-BE3E-66CA054BA47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lure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Available for the A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Rectangle 8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assistance (e.g. in finding a potential private investor for a failing b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assistance (e.g. providing monetary resources (secured loans) to new investor(s), purchasing assets in the course of bank rehabilitation, capital injection (solely or together with investor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of a failing bank’s assets and liabilities to a sound bank (purchase and assum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13:47Z</dcterms:created>
  <dc:creator>khajra</dc:creator>
  <dc:description/>
  <dc:language>en-US</dc:language>
  <cp:lastModifiedBy>khajra</cp:lastModifiedBy>
  <dcterms:modified xsi:type="dcterms:W3CDTF">2011-11-08T07:08:04Z</dcterms:modified>
  <cp:revision>19</cp:revision>
  <dc:subject/>
  <dc:title>Slide 1</dc:title>
</cp:coreProperties>
</file>