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48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BD28-49B3-40EB-A72A-4318E3C1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BC3-F73D-45CF-96C4-B680DD0A9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F506-98DC-403D-8466-F6BCA1930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B72-27F3-4940-8FAE-258111D618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2BE8-27BF-4A1D-8EFD-92C38CB01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D2BD-16DB-4984-A63C-403DE2356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B6A-1C0F-40E5-AE01-2E4A5A884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1B3-990C-4ED5-9E00-DA59A6D96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279-5D1E-4711-864F-55E134A1A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984-402F-4668-BB96-622F751B0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8AF-108F-4AF9-A0A7-71DAC436C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0AD-9555-423B-8B1B-7BC25800D9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E6E6-ECC2-422E-BA86-C2337489F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3B74-E226-47D7-9DA6-013077F23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3BC-2470-4F4F-A412-4E009001E6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02E-92BA-4737-BA1E-253A34939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760-CDD4-4A5F-B59D-55080ABA6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D40-8F1E-4D1A-BB42-3EC6491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141-DEBC-4666-8B8A-5CF3DBC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DFD-CA14-42C6-B299-CBB6B456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592-E384-4321-B366-6C69E0BF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5EA-1D22-430A-A902-A82D0C58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E56-C83B-46CB-8A36-4E71A63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94DE-20D6-4811-A66B-266840E9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D91-B4E1-458D-BC33-ADCFD7A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2814-DC68-42D1-A90C-C689707D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A95-D507-4FA1-805A-953BF7C0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A0E7-0FBD-49EA-8171-7B37CE5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89A-56F2-4C82-85DE-5704ED4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2BB-8753-4A91-8A46-139FEE9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E3FE-B900-45A7-8467-CE68F972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4ED1-CF32-44A9-A400-DC87028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7B14-E9E9-46FB-816F-E5617AB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F964-8D7E-4C68-BD38-57DFFF6D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491-8F1E-46FC-815D-7430AE8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07F-5BED-4D1A-91F0-9BC0540B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24B-5917-4E99-89A8-46F4E46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4CA-B64D-4112-A858-72AA499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151-E044-4E9C-A4E1-4B3E77F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440-3233-4703-9730-3140F70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C2D-346B-4A55-9332-0C2C066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360" y="-15840"/>
            <a:ext cx="9180360" cy="6684840"/>
            <a:chOff x="-36360" y="-15840"/>
            <a:chExt cx="9180360" cy="6684840"/>
          </a:xfrm>
        </p:grpSpPr>
        <p:sp>
          <p:nvSpPr>
            <p:cNvPr id="1" name="Freeform 3"/>
            <p:cNvSpPr/>
            <p:nvPr/>
          </p:nvSpPr>
          <p:spPr>
            <a:xfrm>
              <a:off x="-36360" y="-15840"/>
              <a:ext cx="9165600" cy="66697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21600" y="-720"/>
              <a:ext cx="9165600" cy="666972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476000" y="508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79640" y="5084640"/>
            <a:ext cx="28954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50920" y="64530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8343-4F5C-42C2-9BFF-193AE8BE04B6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biglogo"/>
          <p:cNvPicPr/>
          <p:nvPr/>
        </p:nvPicPr>
        <p:blipFill>
          <a:blip r:embed="rId3"/>
          <a:stretch/>
        </p:blipFill>
        <p:spPr>
          <a:xfrm>
            <a:off x="6629400" y="6019920"/>
            <a:ext cx="25146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4292640"/>
            <a:ext cx="9144000" cy="25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0" y="0"/>
            <a:ext cx="9180000" cy="6021360"/>
            <a:chOff x="0" y="0"/>
            <a:chExt cx="9180000" cy="6021360"/>
          </a:xfrm>
        </p:grpSpPr>
        <p:sp>
          <p:nvSpPr>
            <p:cNvPr id="47" name="Freeform 4"/>
            <p:cNvSpPr/>
            <p:nvPr/>
          </p:nvSpPr>
          <p:spPr>
            <a:xfrm>
              <a:off x="14400" y="0"/>
              <a:ext cx="9165600" cy="60213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65600" cy="60213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pic>
        <p:nvPicPr>
          <p:cNvPr id="49" name="Picture 11" descr="biglogo"/>
          <p:cNvPicPr/>
          <p:nvPr/>
        </p:nvPicPr>
        <p:blipFill>
          <a:blip r:embed="rId3"/>
          <a:stretch/>
        </p:blipFill>
        <p:spPr>
          <a:xfrm>
            <a:off x="5869080" y="5734080"/>
            <a:ext cx="3240000" cy="108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F17-AC63-4EAC-9BE6-434D45981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57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dcf6"/>
                </a:solidFill>
                <a:latin typeface="Book Antiqua"/>
              </a:rPr>
              <a:t>Indonesia Deposit Insurance Corporation</a:t>
            </a: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FUNDING MECHANISM</a:t>
            </a:r>
            <a:r>
              <a:rPr b="1" lang="en-US" sz="3600" spc="-1" strike="noStrike">
                <a:solidFill>
                  <a:srgbClr val="9adcf6"/>
                </a:solidFill>
                <a:latin typeface="Book Antiqua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4292640"/>
            <a:ext cx="5327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rdaus Djaelani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hief Executive Office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79280" y="623736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8</a:t>
            </a:r>
            <a:r>
              <a:rPr b="0" lang="sv-SE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 ARC Meeting &amp; International Conference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Goa – India, 18-20 January 2010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1" name="Picture 7" descr="C:\Users\pmitra\AppData\Local\Microsoft\Windows\Temporary Internet Files\Content.Outlook\FPXYD5H6\patch.jpg"/>
          <p:cNvPicPr/>
          <p:nvPr/>
        </p:nvPicPr>
        <p:blipFill>
          <a:blip r:embed="rId1"/>
          <a:stretch/>
        </p:blipFill>
        <p:spPr>
          <a:xfrm>
            <a:off x="1000080" y="29052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451-0787-443F-B110-5264CC958BB7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5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03280" y="1700280"/>
            <a:ext cx="6553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order to have access to sufficient funding in time,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has fully back up from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encounter liquidity problem,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de liquidity support facility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facility conditions includes interest rate, tenor, repayment, and other arrang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re is no ceiling limit for these faciliti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borrow directly from financial institutions or mark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6CDA-B820-4F19-A553-25568B3E0242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9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03280" y="170028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Whe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 drops below its initial capital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jects new capital to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restor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toring IDIC capital, Government could issue Bon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rough private placement, or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he market, or to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terms of bond issues include amount, interest rate, tenor, repayment of principle and interest, and other requir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raise funds through bond issuanc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56A-CB1D-4D8D-9F36-F859E1CF350F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32000" y="1628640"/>
            <a:ext cx="648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ensure that IDIC has sufficient fund to fufill all of its duties, IDIC sets target Insurance Reserves and calculates Provision for Insurance Loss (PIL)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’s Insurance Reserves is targeted at the level of 2.5%of the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determinig the target level, IDIC taken into accounts : composition &amp; concentration of member banks (number, size, line of business), liabilities structures, probability of defaults, bank supervisory effectiveness, and failure experienc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CFB2-6617-49DD-8539-A3DEFA88FB04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llocation of annual surplus : 80% for Insurance Reserves and 20% for Special Purpose Reserve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nual surplus imply IDIC’s one year  operational revenues minus operational expenses and corporate income tax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ecial Purpose Reserve is a fund which purposed to enhance capacity &amp; capability of IDIC in carrying out its duties and responsibilities such as for fixed assets, human capital, and IT expenditur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8" name="AutoShape 6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D91-782D-4C0C-BD5C-19481D7479A7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ce the target of Insurance Reserves reach 2.5% of insurable deposits, all or part of the annual surplu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will be remitted as non-tax revenue to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user fee model approach, the Government bears all the risks associated with member bank failures, so member banks have no claim againts the Insuranc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erv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Otherwise, the government could reduce the premium rate once the target fund m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2" name="AutoShape 5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3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EA9-3961-4372-8CD9-37155BC2A1F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7280" y="1628640"/>
            <a:ext cx="66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surance Reserves basically is an Une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xpected Losses (UL) that’s extraordinary losses of the DI Fund that can occur under unlikely, yet possible unfavorable outcomes, which, however, are not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considered a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systemic crisis scenario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sion for Insurance Loss (PIL) i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xpected Losses (EL) that’s the “usual” or average losses that a DI Fund incurs under normal circumstances of deposit insurer’s busines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DIC develops the method of calculating PIL using credit risk model approach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6" name="AutoShape 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4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CD6-D118-4858-A460-B0C376619D5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332000" y="1700280"/>
            <a:ext cx="6912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Mathematically, PIL or EL is calculated as the sum of products of EAD, PD and LGD over the whole row of member banks: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A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est. insured deposits in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P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  – probability of default of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LG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share of non-recoverable resources from the bankruptcy estate of a liquidat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2268360" y="2995560"/>
                <a:ext cx="5112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0BF-3DBA-470D-841D-83E33FBA58E5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Kepala Eksekutif"/>
          <p:cNvSpPr/>
          <p:nvPr/>
        </p:nvSpPr>
        <p:spPr>
          <a:xfrm>
            <a:off x="2052720" y="162864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Premium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Direktorat Klaim Dan Likuidasi Bank"/>
          <p:cNvSpPr/>
          <p:nvPr/>
        </p:nvSpPr>
        <p:spPr>
          <a:xfrm>
            <a:off x="1476360" y="5445000"/>
            <a:ext cx="52578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6" name="Komite Informasi"/>
          <p:cNvSpPr/>
          <p:nvPr/>
        </p:nvSpPr>
        <p:spPr>
          <a:xfrm>
            <a:off x="2054160" y="3141720"/>
            <a:ext cx="468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laim Reimbursement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7" name="Kepala Eksekutif"/>
          <p:cNvSpPr/>
          <p:nvPr/>
        </p:nvSpPr>
        <p:spPr>
          <a:xfrm>
            <a:off x="2052720" y="198900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8" name="Kepala Eksekutif"/>
          <p:cNvSpPr/>
          <p:nvPr/>
        </p:nvSpPr>
        <p:spPr>
          <a:xfrm>
            <a:off x="2054160" y="2349360"/>
            <a:ext cx="468000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embership Contribution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Kepala Eksekutif"/>
          <p:cNvSpPr/>
          <p:nvPr/>
        </p:nvSpPr>
        <p:spPr>
          <a:xfrm>
            <a:off x="2054160" y="2708280"/>
            <a:ext cx="4680000" cy="287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Others : Fines &amp; Asset Recover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Komite Informasi"/>
          <p:cNvSpPr/>
          <p:nvPr/>
        </p:nvSpPr>
        <p:spPr>
          <a:xfrm>
            <a:off x="2054160" y="350028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Bank Resolutions Expense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1" name="Komite Informasi"/>
          <p:cNvSpPr/>
          <p:nvPr/>
        </p:nvSpPr>
        <p:spPr>
          <a:xfrm>
            <a:off x="2054160" y="386064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Increase (Decrease) Provision for Insurance Loss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2" name="Komite Informasi"/>
          <p:cNvSpPr/>
          <p:nvPr/>
        </p:nvSpPr>
        <p:spPr>
          <a:xfrm>
            <a:off x="2054160" y="422100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eneral &amp; Administration Expens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1001520" y="2127240"/>
            <a:ext cx="1371600" cy="368280"/>
          </a:xfrm>
          <a:prstGeom prst="rect">
            <a:avLst/>
          </a:prstGeom>
          <a:solidFill>
            <a:srgbClr val="9adcf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venu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Text Box 21"/>
          <p:cNvSpPr/>
          <p:nvPr/>
        </p:nvSpPr>
        <p:spPr>
          <a:xfrm rot="16200000">
            <a:off x="1013400" y="3640680"/>
            <a:ext cx="1366920" cy="3682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5" name="Direktorat Klaim Dan Likuidasi Bank"/>
          <p:cNvSpPr/>
          <p:nvPr/>
        </p:nvSpPr>
        <p:spPr>
          <a:xfrm>
            <a:off x="1476360" y="4653000"/>
            <a:ext cx="5256360" cy="28872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urplus Befor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6" name="Direktorat Klaim Dan Likuidasi Bank"/>
          <p:cNvSpPr/>
          <p:nvPr/>
        </p:nvSpPr>
        <p:spPr>
          <a:xfrm>
            <a:off x="1477800" y="5011560"/>
            <a:ext cx="5256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rporate Incom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7" name="Komite Informasi"/>
          <p:cNvSpPr/>
          <p:nvPr/>
        </p:nvSpPr>
        <p:spPr>
          <a:xfrm>
            <a:off x="6877080" y="2924280"/>
            <a:ext cx="719280" cy="288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8" name="Komite Informasi"/>
          <p:cNvSpPr/>
          <p:nvPr/>
        </p:nvSpPr>
        <p:spPr>
          <a:xfrm>
            <a:off x="6877080" y="4797360"/>
            <a:ext cx="719280" cy="28908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6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9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580-B67B-4A28-82B9-D598FF4386A2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2" name="Kepala Eksekutif"/>
          <p:cNvSpPr/>
          <p:nvPr/>
        </p:nvSpPr>
        <p:spPr>
          <a:xfrm>
            <a:off x="1692360" y="2492280"/>
            <a:ext cx="1152360" cy="28908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8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3" name="Direktorat Klaim Dan Likuidasi Bank"/>
          <p:cNvSpPr/>
          <p:nvPr/>
        </p:nvSpPr>
        <p:spPr>
          <a:xfrm>
            <a:off x="2268360" y="1700280"/>
            <a:ext cx="46800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4" name="Kepala Eksekutif"/>
          <p:cNvSpPr/>
          <p:nvPr/>
        </p:nvSpPr>
        <p:spPr>
          <a:xfrm>
            <a:off x="6372360" y="2492280"/>
            <a:ext cx="1152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5" name="Kepala Eksekutif"/>
          <p:cNvSpPr/>
          <p:nvPr/>
        </p:nvSpPr>
        <p:spPr>
          <a:xfrm>
            <a:off x="971640" y="2852640"/>
            <a:ext cx="2592360" cy="360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6" name="Kepala Eksekutif"/>
          <p:cNvSpPr/>
          <p:nvPr/>
        </p:nvSpPr>
        <p:spPr>
          <a:xfrm>
            <a:off x="5580000" y="2852640"/>
            <a:ext cx="2664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Special Purpos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2843280" y="2060640"/>
            <a:ext cx="1728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4572000" y="2060640"/>
            <a:ext cx="180036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Kepala Eksekutif"/>
          <p:cNvSpPr/>
          <p:nvPr/>
        </p:nvSpPr>
        <p:spPr>
          <a:xfrm>
            <a:off x="2987640" y="5084640"/>
            <a:ext cx="3745080" cy="57636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about US$ 410 million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0" name="Kepala Eksekutif"/>
          <p:cNvSpPr/>
          <p:nvPr/>
        </p:nvSpPr>
        <p:spPr>
          <a:xfrm>
            <a:off x="2987640" y="4437000"/>
            <a:ext cx="3745080" cy="576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5.4 trillion, estimated as of Dec 2009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195640" y="3213000"/>
            <a:ext cx="72072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2" name="Text Box 22"/>
          <p:cNvSpPr/>
          <p:nvPr/>
        </p:nvSpPr>
        <p:spPr>
          <a:xfrm rot="16200000">
            <a:off x="6090480" y="4540680"/>
            <a:ext cx="18716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DIC’s Fun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7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Kepala Eksekutif"/>
          <p:cNvSpPr/>
          <p:nvPr/>
        </p:nvSpPr>
        <p:spPr>
          <a:xfrm>
            <a:off x="2987640" y="3789360"/>
            <a:ext cx="3745080" cy="576360"/>
          </a:xfrm>
          <a:prstGeom prst="rect">
            <a:avLst/>
          </a:prstGeom>
          <a:solidFill>
            <a:srgbClr val="6b8ed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Provision for Insurance Los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6.9 trillion, estimated a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s of Dec 2009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2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103-D7DC-4081-B612-96BB61FE2849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95280" y="2492280"/>
            <a:ext cx="82962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ook Antiqua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rima kasih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D36-E90D-4788-8D77-216E2E7BFFE4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utlin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1692360" y="1628640"/>
            <a:ext cx="64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DIC Key Features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Mandates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surance Premium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Back-Up Funding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Fund Sufficien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D3CF-3FFE-460F-8879-88975DC747C2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DIC Key Featur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03280" y="1700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Public corporat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In between, paybox &amp; risk minimizer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ndatory &amp; automatic membership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Ex-ante funding system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User fee funding approach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x. coverage IDR 2 bill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Flat rate premium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Subrogation right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B56-E32E-4B13-9011-E4C8A3A51F9D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258920" y="1628640"/>
            <a:ext cx="676908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mandates are protecting depositor’s fund; and actively participate in promoting financial system stability, among others, by resolving failed member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fulfilling its mandates, IDIC develop adequate funding mechanism and build collaboration, coordination, and information sharing with other financial safety net player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utilize reimbursement to depositors of closed banks and financial assistance to improve the operation of failed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2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D00-416C-4EDB-8B91-E4AD353BD5B7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58920" y="1628640"/>
            <a:ext cx="67690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fore reimbursing depositors, IDIC  verify  and reconcile deposits record on fail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ligible depositors, insured deposits, payment schedule, paying agent bank, and location of payment then announced to public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olving failed banks, IDIC provide  financial assistance, acquire General Shareholder Meeting, replace management, &amp; take necessary actions to improve soundness of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financial assistance is booked as temporary capital placement to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ABA-5BB2-4131-A533-BF77505D1C93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9" name="Direktorat Klaim Dan Likuidasi Bank"/>
          <p:cNvSpPr/>
          <p:nvPr/>
        </p:nvSpPr>
        <p:spPr>
          <a:xfrm>
            <a:off x="3708360" y="4005360"/>
            <a:ext cx="4103640" cy="64764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Komite Informasi"/>
          <p:cNvSpPr/>
          <p:nvPr/>
        </p:nvSpPr>
        <p:spPr>
          <a:xfrm>
            <a:off x="3708360" y="2421000"/>
            <a:ext cx="4103640" cy="64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One Time Membership Contribution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0.5% of Paid up Capital/Equitie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Kepala Eksekutif"/>
          <p:cNvSpPr/>
          <p:nvPr/>
        </p:nvSpPr>
        <p:spPr>
          <a:xfrm>
            <a:off x="3708360" y="1655640"/>
            <a:ext cx="410364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600" spc="-1" strike="noStrike">
                <a:solidFill>
                  <a:srgbClr val="000000"/>
                </a:solidFill>
                <a:latin typeface="Book Antiqua"/>
              </a:rPr>
              <a:t>about US$ 410 mill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AutoShape 3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Komite Informasi"/>
          <p:cNvSpPr/>
          <p:nvPr/>
        </p:nvSpPr>
        <p:spPr>
          <a:xfrm>
            <a:off x="3708360" y="3213000"/>
            <a:ext cx="4103640" cy="64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nnual Insurance Premium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0.2% of Average Insurable Deposit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Kepala Eksekutif"/>
          <p:cNvSpPr/>
          <p:nvPr/>
        </p:nvSpPr>
        <p:spPr>
          <a:xfrm>
            <a:off x="1187280" y="1655640"/>
            <a:ext cx="230508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5" name="Komite Informasi"/>
          <p:cNvSpPr/>
          <p:nvPr/>
        </p:nvSpPr>
        <p:spPr>
          <a:xfrm>
            <a:off x="1187280" y="2421000"/>
            <a:ext cx="2305080" cy="1439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Direktorat Klaim Dan Likuidasi Bank"/>
          <p:cNvSpPr/>
          <p:nvPr/>
        </p:nvSpPr>
        <p:spPr>
          <a:xfrm>
            <a:off x="1187280" y="4005360"/>
            <a:ext cx="2305080" cy="647640"/>
          </a:xfrm>
          <a:prstGeom prst="rect">
            <a:avLst/>
          </a:prstGeom>
          <a:solidFill>
            <a:srgbClr val="99cc00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overnment Bond/Sukuk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&amp; Central Bank Securit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Direktorat Klaim Dan Likuidasi Bank"/>
          <p:cNvSpPr/>
          <p:nvPr/>
        </p:nvSpPr>
        <p:spPr>
          <a:xfrm>
            <a:off x="1187280" y="5300640"/>
            <a:ext cx="230508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sed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Direktorat Klaim Dan Likuidasi Bank"/>
          <p:cNvSpPr/>
          <p:nvPr/>
        </p:nvSpPr>
        <p:spPr>
          <a:xfrm>
            <a:off x="3708360" y="5300640"/>
            <a:ext cx="410364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covery from Liquidated Asset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Komite Informasi"/>
          <p:cNvSpPr/>
          <p:nvPr/>
        </p:nvSpPr>
        <p:spPr>
          <a:xfrm>
            <a:off x="1187280" y="4797360"/>
            <a:ext cx="230508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Komite Informasi"/>
          <p:cNvSpPr/>
          <p:nvPr/>
        </p:nvSpPr>
        <p:spPr>
          <a:xfrm>
            <a:off x="3708360" y="4797360"/>
            <a:ext cx="410364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es on Late Payment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B3A1-E96F-4877-ABBB-E2BC00854744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32000" y="1557360"/>
            <a:ext cx="64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pay a flat rate 0.1% semi-anually premium (0.2% p.a.) based on monthly average of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do self-assessment; calculate, pay, and report their own premium to IDIC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premium payment, commercial banks  debit their accounts at the Central Bank; whilst rural banks pay to IDIC account in appointed bank with widespread branch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Late premium payment shall be fine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0.5% of unpaid premium amount per day overdue, at maximum 150% of unpaid premium </a:t>
            </a: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EC3-E8DA-4178-A9BD-C8ED701452A1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32000" y="1557360"/>
            <a:ext cx="64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will inform non compliance member banks to the bank supervisor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addition, IDIC could prosecute  directors and commisioners of non compliance member banks for breaching the Law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During global financial crisis, level of coverage was increased from IDR 100 million to IDR 2 billion, but the premium rate was unchanged and there is no special premium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is considering to apply differential  premium system in the near futur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CC7-E028-49C6-9152-D92364ED6C0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32000" y="1557360"/>
            <a:ext cx="64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emphasis of IDIC investment policy is on the safety and liquidity of the fund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can only invest on securities issued by Government or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investment tools includes Government Bond &amp; Islamic Bond (Sukuk), and Central Bank Certificat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day to day operation, IDIC is allowed to place minor amount on current account in commerci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regard to protect Islamic bank deposits, IDIC invest on Sukuk proportionally with the share of the particular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31:39Z</dcterms:created>
  <dc:creator>Hari Prasetya</dc:creator>
  <dc:description/>
  <dc:language>en-US</dc:language>
  <cp:lastModifiedBy>Pratik Mitra</cp:lastModifiedBy>
  <dcterms:modified xsi:type="dcterms:W3CDTF">2010-01-15T07:59:57Z</dcterms:modified>
  <cp:revision>408</cp:revision>
  <dc:subject/>
  <dc:title>Slide 1</dc:title>
</cp:coreProperties>
</file>