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F574-C087-4B66-9623-222F3599D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3A50-ED28-4805-8C7D-885105FC21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351E-AF25-431A-A7B8-218A466923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457164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向政府或央行借款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Borrowing from government or central bank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不可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向政府或央行借款之國家：泰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cannot borrow funds from government or central bank: Thail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政府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提供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證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日、韓、馬、台、越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with government guarantee when borrowing: Japan 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3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香港可向外匯準備基金借款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Hong Kong can borrow money from Foreign Exchange Reserve Fu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向金融機構融資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Borrowing from financial institution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可向金融機構融資的國家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括號為借款之信用風險權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港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0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日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韓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視有政府保證而定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菲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未提供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越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can borrow money from financial institution:Hong Kong (credit risk weight: 10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Japan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Korea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Singapore (depending on government guarantee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aiwan (2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hailand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 (no response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 (0%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政府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提供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證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日、越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 government guarantee: Japan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3. 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多數國家基於存保機構之公營性質，借款時金融機構之信用風險權數為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0% 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港、台除外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Most deposit insurers are public corporations, so the credit risk weight is 0% when they borrow funds from the financial institu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6FCA-44D2-4F01-B780-362BE17CA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160" y="4647960"/>
            <a:ext cx="5746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可發債之國家：日、韓、馬、俄、新、泰、菲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can raise funds by bond issuance: Japan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Thailand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Philippin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有回卷表達發債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免</a:t>
            </a:r>
            <a:r>
              <a:rPr b="1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信評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：日、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Bond issuance without the requirement of credit rating: Japan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ore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3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有回卷表達發債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要</a:t>
            </a:r>
            <a:r>
              <a:rPr b="1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信評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：泰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Bond issuance with the requirement of credit rating: Thaila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4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其餘未表明發債是否須信評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馬、新、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;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俄羅斯表示法令未明定是否須信評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,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但不反對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alaysia, Singapore and the Philippines did not respond if they need the credit rating; while Russia said the law does not stipulate credit rating, but it has no objection if the rating is requir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F89A-3D67-4BD7-AD2C-B663764761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資本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Capital) (P. 6 vs P. 12)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些國家之資本並不屬存款保險基金之一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例如台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故在此頁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Capital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一欄並未打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V”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3333cc"/>
                </a:solidFill>
                <a:latin typeface="Arial"/>
                <a:ea typeface="標楷體"/>
              </a:rPr>
              <a:t>部分國家尚在確認中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 some countries, the start-up capital is not part of the deposit insurance fund, for example, Taiwan; therefore, in this slide, the capital column is not mar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6D34-85C8-4905-A758-195DAF65F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80880" y="4648320"/>
            <a:ext cx="6096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設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目標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印尼、哈、俄、新、台、菲。比率自保額內存款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0.3% 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港、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新細明體"/>
              </a:rPr>
              <a:t>~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承保項目總存款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5%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不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 target ratio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Indone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. The ratio ranges from 0.3% of insured deposits (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) to 5% of insurable deposits (Kazakhsta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達到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When reaching the target ratio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退費機制的國家：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with refund system: Hong Ko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會降低保費的國家：印尼、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that will lower the premium: Indone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低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When under the target ratio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徵收特別保費：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Hong Kong can charge the special prem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4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定期檢視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機制的國家：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每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每二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 (annually) and the Philippines (every two years) review the target value periodical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105A-6EB6-408C-9403-F312F0647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09480" y="4647960"/>
            <a:ext cx="5562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DIF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When deposit insurance fund is in deficit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沒有政府挹注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資金的國家：港、印度、新、泰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N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 injected from government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徵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一般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度、印尼、日、馬、俄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, Indonesia, Malaysia, Russia and Vietnam can charge the general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 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徵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日、哈、韓、馬、新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其中在系統性危機時才能徵收特別保費的國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、韓、台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hich can collect the special premium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Jap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. Among them, Jap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 can do so only when there is a systemic cri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1C41-DD87-4CAA-90D7-23AD8D092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4648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費收入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 CDIC’s premium income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投資政府債券所得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尼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Government bond investment income of IDIC (Indonesia) and PDIC (the Philippines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 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其他所得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尼、哈、俄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Other income of IDIC (Indonesia), KDIF (Kazakhstan), DIA Russia and PDIC (the Philippines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4. 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盈餘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surplus of DICGC (India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5.  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盈餘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不轉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IF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馬來西亞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帳務作法待研究中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DIC (Malaysia) does not transfer its surplus to the DI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CBC3-3693-42CE-A7F3-D7650EAB8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879E-7614-4A63-9A23-9BD2B2B62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相關細節資料彙整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9B6-6F52-48D1-89FE-ACC6F13FFD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09120" y="4723920"/>
            <a:ext cx="4984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無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系統性機制法規的國家：港、印度、泰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Hong Kong, India, Thailand and Vietnam do not stipula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體"/>
              </a:rPr>
              <a:t>a mechanism for handling a systemic crisis in the Deposit Insurance Act or other law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細明體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有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系統性機制法規的國家，除哈、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均訂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pecial Emergency Law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及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Banking Act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外，其餘皆訂於存保條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xcept Kazakhstan and Russia, which stipulate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體"/>
              </a:rPr>
              <a:t>mechanism for handling a systemic crisis in the Special Emergency Law, and Singapore, which is in the Banking Act, all other jurisdictions stipulate in the Deposit Insurance A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3D8B-439E-40CE-AB15-9F168ABBA3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2120" y="4647960"/>
            <a:ext cx="5410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額內存款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全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All deposit insurers cover the insured deposits in full during the financial cri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額外存款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日、哈、韓、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onesia, Japan, Kazakhstan, Korea, Malaysia and Taiwan also cover the uninsured depos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非存款負債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onesia, Malaysia and Taiwan also cover the non-deposit liab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E527-7C86-4A1A-8B25-008481447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4B4-9143-4D0B-B8CD-39BC6BFBB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62120" y="4723920"/>
            <a:ext cx="5333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調高保額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哈、俄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osit insurers raising coverage limit: Indone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實施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全額保障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馬、新、台、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osit insurers providing the blanket guarantee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116F-FD4B-4EE4-A7F9-BB1A8E719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4800240"/>
            <a:ext cx="5410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降費率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哈、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 and Russia decreased the premium rat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pport banks with liquid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 and Taiwan collected the special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CBE-0636-4438-868B-14E004FF54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3B62-64BC-4B87-BABF-CB1A117D44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E50F-5B41-45BA-96FE-8C10AF352D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341-EC63-4706-810B-BF8159DDE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5F1-0E49-4315-820E-82ABB9A49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E16E-FA33-4E5C-A7DD-93A9F9F42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4647960"/>
            <a:ext cx="5333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賠付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港、印度、新、泰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Paybox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組織型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本是半公營法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Organization: Japan is a semi-public corp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全部強制投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其中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台灣有審核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membership are all mandatory, except Taiwan,   which is the mandatory application but subject to CDIC’s appro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A588-C95A-4C2F-9BB3-C2DD9C159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A9C-4AE3-4F3C-8CC3-B6302FA5F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DB56-5C86-4CAB-976B-8CE00B47E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沒有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資本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港、韓、馬、新、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out start-up capital: Hong Kong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5CD-C1E4-4BB1-B3AD-1827BB5F4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4716000"/>
            <a:ext cx="579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1. 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差別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differential premium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2005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年實施差別費率國家：港、新、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implementing differential premium system in 2005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2009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年實施差別費率國家：港、新、台、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哈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馬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印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正規劃實施差別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implementing differential premium system in 2009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Malay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. In addition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Indone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 is planning to implement differential premium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special premium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徵收特別保費的國家：港、日、哈、韓、馬、新、台；其中在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系統性危機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時才能徵收的國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日、韓、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hich can collect the special premi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Jap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. Among them, Jap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 can do so only when there is a systemic cri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26D-8D89-40BA-9680-E0AA69683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1920" y="4572000"/>
            <a:ext cx="63248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-29196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可投資政府長短期債券、金融債券、存放央行或健全銀行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以外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非保本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：港、哈、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In addition to government bonds, notes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nk debentur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and deposits, deposit insurers which can invest in other financial products includ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香港：以避險為目的的衍生性金融商品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Hong Kong: Risk-hedging derivative financial produ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哈薩克：衍生性商品、附買回及附賣回交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azakhstan: Derivative securities, REPO and reverse REPO transactions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3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俄羅斯：股票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Russia: 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orporate shar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4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另印尼和泰國可投資在 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other”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項目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oreover, Indonesia and Thailand can invest in the following produc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印尼：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央行發行的有價證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無細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Indonesi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Securities issued by central ban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泰國：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存放於專業金融機構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無細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Thailand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Deposits in specialized financial institutio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86D3-06A5-4B5B-AAE3-3BA769C4F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 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清理回收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和保費遲交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罰鍰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全部國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ecovery from liquidation and penalties on late premium payment are also sources of the funding of all  deposit insur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金融機構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捐助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國家：印尼、韓、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receiving the contribution from financial institutions: Indonesia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uss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06BB-3099-4738-9142-C9C4726A2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3B0F-6EE7-4CE3-A0D9-954F59EDE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41F1-4C5D-44D2-B0A9-19BAF8276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596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192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4000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596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192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B1FA-3FC8-4BF9-8AAA-2B49DB6EC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26920" y="345600"/>
            <a:ext cx="4824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BD81-D456-4F0E-9983-10F83E205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596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192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4000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48596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192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DFDF-59F2-4AF3-B46E-286B45F4F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8C82-64BD-4ED8-BAFB-B46D7F060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D4AD-2580-45CC-9F3B-E69556830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6920" y="345600"/>
            <a:ext cx="4824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09D7-CCA7-42BB-81E2-737DD2CCC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FCA1-C5FE-4F3B-A8FD-114ADA442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0C33-8A72-4ED9-8411-8C416424F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4C09-333E-451D-AAF1-55FC70CE1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6920" y="3456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326a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773C-0E72-42FF-ABA5-41BC17787F60}" type="slidenum">
              <a:rPr b="0" lang="en-US" sz="1400" spc="-1" strike="noStrike">
                <a:solidFill>
                  <a:srgbClr val="2d326a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7"/>
          <p:cNvGraphicFramePr/>
          <p:nvPr/>
        </p:nvGraphicFramePr>
        <p:xfrm>
          <a:off x="0" y="304920"/>
          <a:ext cx="914400" cy="88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920"/>
                    <a:ext cx="9144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26920" y="3456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866920" y="3933720"/>
            <a:ext cx="342900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新細明體"/>
              </a:rPr>
              <a:t>Howard N. H. Wang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新細明體"/>
              </a:rPr>
              <a:t>President</a:t>
            </a:r>
            <a:endParaRPr b="1" lang="en-US" sz="20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新細明體"/>
              </a:rPr>
              <a:t>Central Deposit Insurance Corp.</a:t>
            </a:r>
            <a:endParaRPr b="1" lang="en-US" sz="16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新細明體"/>
              </a:rPr>
              <a:t>(Taiwan)</a:t>
            </a:r>
            <a:endParaRPr b="1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-381240" y="182844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Funding Mechanisms of </a:t>
            </a:r>
            <a:br>
              <a:rPr sz="3200"/>
            </a:b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Deposit Insurance Systems </a:t>
            </a:r>
            <a:br>
              <a:rPr sz="3200"/>
            </a:b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in Asia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- ARC 2009 Research Paper</a:t>
            </a:r>
            <a:endParaRPr b="1" lang="en-US" sz="24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89" name="Text Box 1028"/>
          <p:cNvSpPr/>
          <p:nvPr/>
        </p:nvSpPr>
        <p:spPr>
          <a:xfrm>
            <a:off x="0" y="6472080"/>
            <a:ext cx="5292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ARC 8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新細明體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 Int’l Conference at Goa,  Jan. 19, 20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857160" y="76320"/>
            <a:ext cx="7566120" cy="11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8B21-818E-4CA4-8DA8-5769FFAB9153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For Liquidity Purpose—Borrowing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280" y="1523880"/>
          <a:ext cx="7417080" cy="5106960"/>
        </p:xfrm>
        <a:graphic>
          <a:graphicData uri="http://schemas.openxmlformats.org/drawingml/2006/table">
            <a:tbl>
              <a:tblPr/>
              <a:tblGrid>
                <a:gridCol w="446040"/>
                <a:gridCol w="562320"/>
                <a:gridCol w="1150920"/>
                <a:gridCol w="2016000"/>
                <a:gridCol w="1728720"/>
                <a:gridCol w="1513080"/>
              </a:tblGrid>
              <a:tr h="368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rrowing from govt. or 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rrowing from FI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uarantor if 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Institution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 Risk weight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ending on government guarante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DIC/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EAA-C215-4D63-8897-BC64A935AC0E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For Liquidity Purpose—Bond Issuanc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42" name="Text Box 102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700280"/>
          <a:ext cx="7416720" cy="4968720"/>
        </p:xfrm>
        <a:graphic>
          <a:graphicData uri="http://schemas.openxmlformats.org/drawingml/2006/table">
            <a:tbl>
              <a:tblPr/>
              <a:tblGrid>
                <a:gridCol w="574560"/>
                <a:gridCol w="4824360"/>
                <a:gridCol w="201780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bt-based Financin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 rating required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-guaranteed deposit insurance bond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-guaranteed DIF bonds and DIF bond repayment fund bond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guaranteed bonds, etc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osit Insurance bond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t specifie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ny Debt Instrumen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osit insurance bonds, bills or other financial instruments approved by the Minister of Finan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(for public offering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Bonds, debentures or other obliga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9FD8-94A4-4A1D-8820-7CF067C91089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mparison of Sources of DIF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628640"/>
          <a:ext cx="7850160" cy="4819680"/>
        </p:xfrm>
        <a:graphic>
          <a:graphicData uri="http://schemas.openxmlformats.org/drawingml/2006/table">
            <a:tbl>
              <a:tblPr/>
              <a:tblGrid>
                <a:gridCol w="504720"/>
                <a:gridCol w="615960"/>
                <a:gridCol w="752400"/>
                <a:gridCol w="719280"/>
                <a:gridCol w="649080"/>
                <a:gridCol w="863640"/>
                <a:gridCol w="503280"/>
                <a:gridCol w="936720"/>
                <a:gridCol w="936720"/>
                <a:gridCol w="647640"/>
                <a:gridCol w="720720"/>
              </a:tblGrid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venu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ity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apit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Earning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n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vest-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nt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covery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rom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a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ccommoda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nd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ssuanc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ribu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ccommodation from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 / Central Bank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oans from FI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B91-8703-428C-B902-2F4C3441DDF5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Administration of DIF-</a:t>
            </a: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Setting of DIF Target Value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628640"/>
          <a:ext cx="7489800" cy="4824720"/>
        </p:xfrm>
        <a:graphic>
          <a:graphicData uri="http://schemas.openxmlformats.org/drawingml/2006/table">
            <a:tbl>
              <a:tblPr/>
              <a:tblGrid>
                <a:gridCol w="593640"/>
                <a:gridCol w="558720"/>
                <a:gridCol w="4753080"/>
                <a:gridCol w="15843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IF Target Valu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eriodical revie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.3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.5% of the 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t less than 5% of the 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MDIC is currently developing a target fund framewor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5% of insured deposits (excluding banks with ratings equal or higher than the Russian Federation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’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rating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 yea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.3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92.5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 year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F13-4658-444E-8319-2AA8B84F9D6A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Methods for Dealing with DIF Deficit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2484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ministration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628640"/>
          <a:ext cx="7343640" cy="4896000"/>
        </p:xfrm>
        <a:graphic>
          <a:graphicData uri="http://schemas.openxmlformats.org/drawingml/2006/table">
            <a:tbl>
              <a:tblPr/>
              <a:tblGrid>
                <a:gridCol w="569880"/>
                <a:gridCol w="2197080"/>
                <a:gridCol w="2333520"/>
                <a:gridCol w="224316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EA75-71C1-404E-AA96-21392BD2DF2E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3628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Handling of Taxes and Surplu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628640"/>
          <a:ext cx="7561080" cy="4969080"/>
        </p:xfrm>
        <a:graphic>
          <a:graphicData uri="http://schemas.openxmlformats.org/drawingml/2006/table">
            <a:tbl>
              <a:tblPr/>
              <a:tblGrid>
                <a:gridCol w="560160"/>
                <a:gridCol w="1866960"/>
                <a:gridCol w="2146320"/>
                <a:gridCol w="841320"/>
                <a:gridCol w="933480"/>
                <a:gridCol w="1212840"/>
              </a:tblGrid>
              <a:tr h="304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ax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urplu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 Bond Investment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urplu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ransfer to DIF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981-0259-4052-92C2-791F02E490F7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96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70" name="Rectangle 116"/>
          <p:cNvSpPr/>
          <p:nvPr/>
        </p:nvSpPr>
        <p:spPr>
          <a:xfrm>
            <a:off x="684360" y="1700280"/>
            <a:ext cx="741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Agencies responsible for dealing with  systemic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Mechanism for dealing with systemic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Scope of protection during the financial cri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Reactions to the global financial crisis in terms of coverage and premi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ifference between the funding sources for an individual failure and a systemic cri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813-4231-4CD7-B800-8133375A2D79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Agencies Responsible for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676520"/>
          <a:ext cx="7416720" cy="4964040"/>
        </p:xfrm>
        <a:graphic>
          <a:graphicData uri="http://schemas.openxmlformats.org/drawingml/2006/table">
            <a:tbl>
              <a:tblPr/>
              <a:tblGrid>
                <a:gridCol w="590400"/>
                <a:gridCol w="1706760"/>
                <a:gridCol w="1138320"/>
                <a:gridCol w="2274840"/>
                <a:gridCol w="947520"/>
                <a:gridCol w="75888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gencies Responsible for Dealing with Systemic Cris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inistry of Finan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Supervisory Agency/Commiss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 Insur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02C9-F5AF-45DE-A299-265725D9C257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Mechanism for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endParaRPr b="1" lang="en-US" sz="30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1647720"/>
          <a:ext cx="7632720" cy="5062680"/>
        </p:xfrm>
        <a:graphic>
          <a:graphicData uri="http://schemas.openxmlformats.org/drawingml/2006/table">
            <a:tbl>
              <a:tblPr/>
              <a:tblGrid>
                <a:gridCol w="595440"/>
                <a:gridCol w="1258920"/>
                <a:gridCol w="2260440"/>
                <a:gridCol w="3517920"/>
              </a:tblGrid>
              <a:tr h="280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chanism for Dealing with Systemic Cris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tipul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 Insurance Ac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emergency la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  on the Structural Improvement of the Financial Indust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emergency la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Banking Ac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826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2C60-5AC1-4DE4-849B-2B267D805846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Scope of Protection During Financial Crisi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1523880"/>
          <a:ext cx="6934320" cy="4919760"/>
        </p:xfrm>
        <a:graphic>
          <a:graphicData uri="http://schemas.openxmlformats.org/drawingml/2006/table">
            <a:tbl>
              <a:tblPr/>
              <a:tblGrid>
                <a:gridCol w="708120"/>
                <a:gridCol w="1839960"/>
                <a:gridCol w="2176560"/>
                <a:gridCol w="2209680"/>
              </a:tblGrid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Un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Non-deposit Liabiliti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194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1CD5-FE91-4DF6-954A-0CCA925CD9EF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73087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Basic frameworks of the deposit insurance systems (DIS)</a:t>
            </a:r>
            <a:r>
              <a:rPr b="1" lang="en-US" sz="2400" spc="-1" strike="noStrike">
                <a:solidFill>
                  <a:srgbClr val="454567"/>
                </a:solidFill>
                <a:latin typeface="Times New Roman"/>
                <a:ea typeface="新細明體"/>
              </a:rPr>
              <a:t>*</a:t>
            </a: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ance fund function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Sources of deposit insurance fund (DIF)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Administration of DIF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Handling of taxes and surpluse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aling with systemic crise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onclusion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66699"/>
              </a:solidFill>
              <a:latin typeface="Arial"/>
            </a:endParaRPr>
          </a:p>
          <a:p>
            <a:pPr marL="101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54567"/>
                </a:solidFill>
                <a:latin typeface="Arial"/>
                <a:ea typeface="新細明體"/>
              </a:rPr>
              <a:t>* 13 deposit insurers were surveyed in this study, including: HK=Hong Kong; IN=India; ID=Indonesia; JP=Japan; KZ=Kazakhstan; KR=Korea; MY=Malaysia; RU=Russia; SG=Singapore; TW=Taiwan; TH=Thailand; PH=The Philippines; VN=Vietnam. </a:t>
            </a:r>
            <a:endParaRPr b="1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120" y="4572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tent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092C-3D1B-4E59-A759-F3F33B58E4E0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Reactions—Coverag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Adjustments</a:t>
            </a:r>
            <a:endParaRPr b="1" lang="en-US" sz="28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1523880"/>
          <a:ext cx="8077320" cy="5105520"/>
        </p:xfrm>
        <a:graphic>
          <a:graphicData uri="http://schemas.openxmlformats.org/drawingml/2006/table">
            <a:tbl>
              <a:tblPr/>
              <a:tblGrid>
                <a:gridCol w="480960"/>
                <a:gridCol w="576360"/>
                <a:gridCol w="1305000"/>
                <a:gridCol w="1378080"/>
                <a:gridCol w="1269720"/>
                <a:gridCol w="598680"/>
                <a:gridCol w="2468520"/>
              </a:tblGrid>
              <a:tr h="46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crease in Coverag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ull Coverage / Blanket Guarante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verage Fro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verage T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4/ 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3/2008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P 100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P 2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23/2008- 01/01/201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 0.7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 5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/2008- 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B 4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B 7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7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28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8/10/201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6/1/2009- 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Peso 25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Peso 5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898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13C9-BC80-483A-B25D-929EEC0DD54A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628640"/>
          <a:ext cx="7826400" cy="5072040"/>
        </p:xfrm>
        <a:graphic>
          <a:graphicData uri="http://schemas.openxmlformats.org/drawingml/2006/table">
            <a:tbl>
              <a:tblPr/>
              <a:tblGrid>
                <a:gridCol w="610920"/>
                <a:gridCol w="586080"/>
                <a:gridCol w="1143000"/>
                <a:gridCol w="2286000"/>
                <a:gridCol w="685800"/>
                <a:gridCol w="251460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hange in Premium rat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llection of Speci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ince January 2008 the premium rates were decreased by 25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tarting October 2008 the premium rate was decreased from 0.13 to 0.10% per quart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1/1/2008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Reactions—Premium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Adjustments</a:t>
            </a:r>
            <a:endParaRPr b="1" lang="en-US" sz="28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0" name="Text Box 156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6406-34CD-4A21-A68D-9E02F51BE3B6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新細明體"/>
              </a:rPr>
              <a:t>Difference between the Funding Sources for An Individual Failure &amp; A Systemic Crisis</a:t>
            </a:r>
            <a:endParaRPr b="1" lang="en-US" sz="26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5" name="Text Box 132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523880"/>
          <a:ext cx="8001000" cy="5153040"/>
        </p:xfrm>
        <a:graphic>
          <a:graphicData uri="http://schemas.openxmlformats.org/drawingml/2006/table">
            <a:tbl>
              <a:tblPr/>
              <a:tblGrid>
                <a:gridCol w="493560"/>
                <a:gridCol w="2306880"/>
                <a:gridCol w="52005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ame as Funding Sources for an Individual Failur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Funding Sour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During the present crisis and in case of a deficit the Central Bank and the national welfare fund “Samruk-Kazyna” are defined as the funding sources till the end of 2011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fter January 2012: Additional premiums from the financial institutions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The “emergency” law which authorizes the Agency to take measures aimed at prevention of bankruptcies of systemically important banks will be effective till Dec. 31, 2011.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premium can be charged from insured institutions when there is the possibility of a systemic crisis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AD1-4670-4D7E-8A81-9FBDE5B9AED1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21052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clusion (I)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95280" y="1628640"/>
            <a:ext cx="7489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iversified funding vehicles are necessary to ensure sufficient funds and liquidity of deposit insur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ance fund investment should consider mainly safety and liquid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More Asian DIs set up DIF target val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D773-6CC0-4FA2-AFE2-4233B9D6EDE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1628640"/>
            <a:ext cx="7489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ers shall be exempt from all taxes to speed up the accumulation of deposit insurance fu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Overall financial condition should be considered while adjusting deposit insurance premium during a financial cri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ost of handling a financial crisis should not be borne by deposit insurance organization alone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  <a:ea typeface="新細明體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21052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clusion (II)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3B2-1A12-4BB5-96B0-09D5FD55DC98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286000"/>
            <a:ext cx="8991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54567"/>
                </a:solidFill>
                <a:latin typeface="Arial"/>
                <a:ea typeface="新細明體"/>
              </a:rPr>
              <a:t>Money is not everything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54567"/>
                </a:solidFill>
                <a:latin typeface="Arial"/>
                <a:ea typeface="新細明體"/>
              </a:rPr>
              <a:t>but without money one can achieve no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838080" y="4724280"/>
            <a:ext cx="2057040" cy="1534680"/>
            <a:chOff x="838080" y="4724280"/>
            <a:chExt cx="2057040" cy="1534680"/>
          </a:xfrm>
        </p:grpSpPr>
        <p:pic>
          <p:nvPicPr>
            <p:cNvPr id="222" name="Picture 7" descr="j0222015"/>
            <p:cNvPicPr/>
            <p:nvPr/>
          </p:nvPicPr>
          <p:blipFill>
            <a:blip r:embed="rId1"/>
            <a:stretch/>
          </p:blipFill>
          <p:spPr>
            <a:xfrm>
              <a:off x="2073600" y="4724280"/>
              <a:ext cx="821520" cy="8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8" descr="BD04972_"/>
            <p:cNvPicPr/>
            <p:nvPr/>
          </p:nvPicPr>
          <p:blipFill>
            <a:blip r:embed="rId2"/>
            <a:stretch/>
          </p:blipFill>
          <p:spPr>
            <a:xfrm>
              <a:off x="838080" y="5199480"/>
              <a:ext cx="1413360" cy="10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9" descr=""/>
          <p:cNvPicPr/>
          <p:nvPr/>
        </p:nvPicPr>
        <p:blipFill>
          <a:blip r:embed="rId3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1295280" cy="12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47242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Verdana"/>
                <a:ea typeface="新細明體"/>
              </a:rPr>
              <a:t>Thank You!</a:t>
            </a:r>
            <a:endParaRPr b="1" lang="en-US" sz="48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90880" y="4419720"/>
            <a:ext cx="31996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新細明體"/>
              </a:rPr>
              <a:t>cdic@cdic.gov.t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4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732-B55F-4702-BBCA-4FDFC9960E19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561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Basic Frameworks of DI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557360"/>
          <a:ext cx="7459560" cy="5041800"/>
        </p:xfrm>
        <a:graphic>
          <a:graphicData uri="http://schemas.openxmlformats.org/drawingml/2006/table">
            <a:tbl>
              <a:tblPr/>
              <a:tblGrid>
                <a:gridCol w="504720"/>
                <a:gridCol w="1511280"/>
                <a:gridCol w="1855800"/>
                <a:gridCol w="1960560"/>
                <a:gridCol w="162720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ate of DIS Implement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rganization Typ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and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mbership Approac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anuary 196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ly 197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mi-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vember 1999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ne 199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cember 200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pril 200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198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Mandatory application, but subject to CDIC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細明體"/>
                        </a:rPr>
                        <a:t>’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 approv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ugust 200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ne 196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n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between (transitioning t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ly 2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CF9-11CF-4ACA-90F5-6A4E7BAB96A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8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DIF Function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73360"/>
          <a:ext cx="8064360" cy="4786200"/>
        </p:xfrm>
        <a:graphic>
          <a:graphicData uri="http://schemas.openxmlformats.org/drawingml/2006/table">
            <a:tbl>
              <a:tblPr/>
              <a:tblGrid>
                <a:gridCol w="536400"/>
                <a:gridCol w="1152720"/>
                <a:gridCol w="2303280"/>
                <a:gridCol w="1384560"/>
                <a:gridCol w="1306440"/>
                <a:gridCol w="1380960"/>
              </a:tblGrid>
              <a:tr h="263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eting Insurance Obliga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assistance to improve the operations of problem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dvance payments to depositors/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ors of failed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imburse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assistance for the sound financial institutions to P&amp;A the failed insured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Establishment of bridge bank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2983-07D0-4EDA-982F-CE06EF68D897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Sources of DIF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apita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Premium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Earnings on investmen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Recoveries and other sources of revenue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For liquidity purpose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新細明體"/>
              </a:rPr>
              <a:t>Borrowing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新細明體"/>
              </a:rPr>
              <a:t>Bonds issuance 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485A-1014-4111-9F88-C9F6725A3F55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27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apital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628640"/>
          <a:ext cx="7772400" cy="5077080"/>
        </p:xfrm>
        <a:graphic>
          <a:graphicData uri="http://schemas.openxmlformats.org/drawingml/2006/table">
            <a:tbl>
              <a:tblPr/>
              <a:tblGrid>
                <a:gridCol w="614160"/>
                <a:gridCol w="1900440"/>
                <a:gridCol w="525780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apital Amou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our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R0.5 billio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entral Bank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DR 4 tr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PY455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, Central Bank, Private financial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110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R8.4 billio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T$10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, Central Bank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HP3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national government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ND5 tr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111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7D92-1FE3-4A8F-915B-7A8B626A96D2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050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Premium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676520"/>
          <a:ext cx="7058160" cy="4897440"/>
        </p:xfrm>
        <a:graphic>
          <a:graphicData uri="http://schemas.openxmlformats.org/drawingml/2006/table">
            <a:tbl>
              <a:tblPr/>
              <a:tblGrid>
                <a:gridCol w="565200"/>
                <a:gridCol w="2540160"/>
                <a:gridCol w="1976400"/>
                <a:gridCol w="1976400"/>
              </a:tblGrid>
              <a:tr h="299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 Assessment Basi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ate Syste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Total deposit liability of bank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248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58C5-3EC2-46C0-9131-EF489F0D0328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Earnings on Investmen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817640"/>
          <a:ext cx="7647120" cy="4707000"/>
        </p:xfrm>
        <a:graphic>
          <a:graphicData uri="http://schemas.openxmlformats.org/drawingml/2006/table">
            <a:tbl>
              <a:tblPr/>
              <a:tblGrid>
                <a:gridCol w="465120"/>
                <a:gridCol w="557280"/>
                <a:gridCol w="865080"/>
                <a:gridCol w="790920"/>
                <a:gridCol w="649080"/>
                <a:gridCol w="719280"/>
                <a:gridCol w="649080"/>
                <a:gridCol w="935280"/>
                <a:gridCol w="1439640"/>
                <a:gridCol w="576360"/>
              </a:tblGrid>
              <a:tr h="43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nd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Note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. Bond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ank Debenture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rporate Bond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U.S. Gov. Bond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oreign Financial Bond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hort-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erm Note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 Deposit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s in Sound Financial Institution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414F-3BDC-429A-BAE1-689FB5B56AB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28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Recoveries &amp; Other Sources of Revenu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628640"/>
          <a:ext cx="7199280" cy="5000760"/>
        </p:xfrm>
        <a:graphic>
          <a:graphicData uri="http://schemas.openxmlformats.org/drawingml/2006/table">
            <a:tbl>
              <a:tblPr/>
              <a:tblGrid>
                <a:gridCol w="503280"/>
                <a:gridCol w="1531800"/>
                <a:gridCol w="3178080"/>
                <a:gridCol w="1986120"/>
              </a:tblGrid>
              <a:tr h="31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covery from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Sources of Revenu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enalties on Late Premium Payment (Fines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rib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5:33:04Z</dcterms:created>
  <dc:creator>Ya.p</dc:creator>
  <dc:description/>
  <dc:language>en-US</dc:language>
  <cp:lastModifiedBy>Pratik Mitra</cp:lastModifiedBy>
  <dcterms:modified xsi:type="dcterms:W3CDTF">2010-01-15T08:03:21Z</dcterms:modified>
  <cp:revision>524</cp:revision>
  <dc:subject/>
  <dc:title>投影片 1</dc:title>
</cp:coreProperties>
</file>