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613E-6D8A-4932-84CF-276DA6007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79FB-DC45-41CE-AB1A-0F9939D67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6848-389D-4DED-B60B-30EA0961B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E109-FA2A-40DB-B84C-73E07C0EB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B1AD-12C3-48C4-9671-D06E99D7F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9788-923D-40C1-8FB4-1B0B79C44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E35E-1BC9-467F-81A1-89556BFBA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6597-D0F7-439B-9CEF-CADBDF8A7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7E14-9016-4CE3-ADF1-75F5EAA5B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BEBE-3BDF-4087-A2D6-BBBF340F2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2D50-A4A5-4671-835E-4251A94E3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FEB2-C07C-4FC8-8D63-59220A676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7468-8DC3-431D-9DC3-C5FED935A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A0AD-DAE0-4CB3-8695-2DDB613DC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AAB7-1BD4-4F69-988E-9C5ACA7BB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EB08-8916-497B-9648-0D786D00B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3BD0-1EF7-4C69-94E7-930807842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5769-9B6E-4E8B-A158-C663C0BEB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AA60-2F69-4266-9E12-33614A9AE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A5CA-C321-4EA0-B433-4727C557F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8993-8077-4DB0-85CA-CA83A4C4F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748F-EA64-4659-8107-748D9CAB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192-5C39-401E-9211-6E5B8261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7EE-4785-4036-B3C4-77A96586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A70-9B34-43C3-9B58-B97BB2B8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A8C-4384-471A-9E9C-AF276D91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0AA-A124-47B4-92DD-8ABE181C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101-1A1D-424D-89A9-05F1D7DD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0FC-546B-46DD-9044-4695B8F8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D1A-2859-4953-B406-FA5519AB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11F-1BB7-4E4D-9406-9C614DE9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52F-0CBE-4A15-9A29-072756F8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47E-C4B4-4255-B89F-30436F51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7064-CDC7-40CE-981C-F36481D8C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-152280" y="2286000"/>
            <a:ext cx="9448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NAGEMENT OF DEPOSIT INSURANCE FUND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hilippine Experie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2057400" y="457200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NDRA A. DIAZ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Vice Presi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osit Insurance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0" y="579132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292929"/>
                </a:solidFill>
                <a:latin typeface="Arial"/>
              </a:rPr>
              <a:t>8</a:t>
            </a:r>
            <a:r>
              <a:rPr b="0" i="1" lang="en-US" sz="23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0" i="1" lang="en-US" sz="2300" spc="-1" strike="noStrike">
                <a:solidFill>
                  <a:srgbClr val="292929"/>
                </a:solidFill>
                <a:latin typeface="Arial"/>
              </a:rPr>
              <a:t> Asia Regional Committee Meeting &amp; International Confere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292929"/>
                </a:solidFill>
                <a:latin typeface="Arial"/>
              </a:rPr>
              <a:t>January 18, 20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C:\Users\pmitra\AppData\Local\Microsoft\Windows\Temporary Internet Files\Content.Outlook\FPXYD5H6\patch.jpg"/>
          <p:cNvPicPr/>
          <p:nvPr/>
        </p:nvPicPr>
        <p:blipFill>
          <a:blip r:embed="rId2"/>
          <a:stretch/>
        </p:blipFill>
        <p:spPr>
          <a:xfrm>
            <a:off x="1000080" y="919080"/>
            <a:ext cx="75661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838080" y="1913040"/>
          <a:ext cx="6629400" cy="3573360"/>
        </p:xfrm>
        <a:graphic>
          <a:graphicData uri="http://schemas.openxmlformats.org/drawingml/2006/table">
            <a:tbl>
              <a:tblPr/>
              <a:tblGrid>
                <a:gridCol w="4883400"/>
                <a:gridCol w="1746000"/>
              </a:tblGrid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rance Reserves Target (IR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 87.6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sit Insurance Fund (DIF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 6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/I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/ Insured Depos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23"/>
          <p:cNvSpPr/>
          <p:nvPr/>
        </p:nvSpPr>
        <p:spPr>
          <a:xfrm>
            <a:off x="762120" y="806400"/>
            <a:ext cx="75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V. DEPOSIT INSURANCE FUND SUFFICI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762480" y="150804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in Billion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838080" y="1523880"/>
            <a:ext cx="792504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Section 17 of the PDIC Char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(a) Money of the Corporation not otherwise employed shall b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2925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invested in obligations of the Republic of the Philippines 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2925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in obligations guaranteed as to principal and interest by the Republic of the Philippin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(b) The banking or checking accounts of the Corporation shall b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2925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kept with the </a:t>
            </a:r>
            <a:r>
              <a:rPr b="0" i="1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Bangko Sentral ng Pilipinas (Central Bank) 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2925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any other bank designated as depository or fiscal agent of the Philippine government</a:t>
            </a:r>
            <a:r>
              <a:rPr b="0" lang="en-US" sz="2000" spc="-1" strike="noStrike">
                <a:solidFill>
                  <a:srgbClr val="292526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62120" y="762120"/>
            <a:ext cx="723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. INVESTMENT of FUN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26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27"/>
          <p:cNvSpPr/>
          <p:nvPr/>
        </p:nvSpPr>
        <p:spPr>
          <a:xfrm>
            <a:off x="152280" y="5335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MENTS &amp; SINKING F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9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Billion Pes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028"/>
          <p:cNvGraphicFramePr/>
          <p:nvPr/>
        </p:nvGraphicFramePr>
        <p:xfrm>
          <a:off x="152280" y="914400"/>
          <a:ext cx="891540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0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14400"/>
                    <a:ext cx="891540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029"/>
          <p:cNvGraphicFramePr/>
          <p:nvPr/>
        </p:nvGraphicFramePr>
        <p:xfrm>
          <a:off x="76320" y="4724280"/>
          <a:ext cx="8915400" cy="2133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2" name="Object 10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4724280"/>
                    <a:ext cx="89154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9" descr=""/>
          <p:cNvPicPr/>
          <p:nvPr/>
        </p:nvPicPr>
        <p:blipFill>
          <a:blip r:embed="rId6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762120" y="609480"/>
            <a:ext cx="617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. INVESTMENT OF FU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6"/>
          <p:cNvGraphicFramePr/>
          <p:nvPr/>
        </p:nvGraphicFramePr>
        <p:xfrm>
          <a:off x="685800" y="1625760"/>
          <a:ext cx="8001000" cy="523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25760"/>
                    <a:ext cx="80010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7"/>
          <p:cNvSpPr/>
          <p:nvPr/>
        </p:nvSpPr>
        <p:spPr>
          <a:xfrm>
            <a:off x="2209680" y="129528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FOLIO M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4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Object 6"/>
          <p:cNvGraphicFramePr/>
          <p:nvPr/>
        </p:nvGraphicFramePr>
        <p:xfrm>
          <a:off x="762120" y="2362320"/>
          <a:ext cx="807696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362320"/>
                    <a:ext cx="80769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7"/>
          <p:cNvSpPr/>
          <p:nvPr/>
        </p:nvSpPr>
        <p:spPr>
          <a:xfrm>
            <a:off x="685800" y="1079640"/>
            <a:ext cx="7924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DIC Investment Portfolio Income v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I of Selected Local Bond Fun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6 - 200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09480" y="609480"/>
            <a:ext cx="617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. INVESTMENT OF FU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4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762120" y="990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62120" y="80640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. ALTERNATIVE FUND SOURC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38080" y="1600200"/>
            <a:ext cx="7391520" cy="42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ity to B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settlement of insured deposit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111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assistance to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Central 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111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ing interest rate shall not exce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sury bill rat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any depository or fiscal agent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term loans, credit lines &amp; other cred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mo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990720" y="12193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38080" y="1600200"/>
            <a:ext cx="7391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ity to B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utilized for long-term rehabil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ance to banks ( 1997-20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yment is ensured through the set-up of sinking fun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838080" y="88272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. ALTERNATIVE FUND SOURC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762120" y="80640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. ALTERNATIVE FUND 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62120" y="1527120"/>
            <a:ext cx="822960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suance of Bonds, Debentures and Other Oblig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settlement of insured deposit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assistance to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or fore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-exem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pproves the issuance/ re-issuance, interest r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/ maturity, servicing, placement and rede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be provided reserves for the redemption 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rement of the oblig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762120" y="83808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. TAX ISSUES with the BUREAU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AL REVENUE (BI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371600" y="2057400"/>
            <a:ext cx="74674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Added Tax (VAT) on assessment collections from member banks (1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Tax on assessment collections from member banks (3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1447920" y="2514600"/>
            <a:ext cx="7010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’s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IC is engaged in business, rendering non-life insurance services to its member banks for a fee, hence, liable to pay V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762120" y="114300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. TAX ISSUES with the BUREAU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AL REVENUE (BI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685800" y="91440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 OUTLIN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85800" y="1676520"/>
            <a:ext cx="792468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Insurance Risk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the Deposit Insurance Reserves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 of Insurance Reserves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Insurance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Fund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Legislative Amendments to Build-up the 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26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27"/>
          <p:cNvSpPr/>
          <p:nvPr/>
        </p:nvSpPr>
        <p:spPr>
          <a:xfrm>
            <a:off x="838080" y="175176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DIC maintains tha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28"/>
          <p:cNvSpPr/>
          <p:nvPr/>
        </p:nvSpPr>
        <p:spPr>
          <a:xfrm>
            <a:off x="83808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is not engaged in the sale of good or service; consistent with public policy, it is mandated to collect premiums from banks for purposes of DEPOSITOR PROTECTI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is not engaged in the sale of insurance, PDIC is not engaged in trade or busines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is a regulatory agency performing a sovereign functi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does not have the authority to pass on VAT to banks because the rate of assessment is fixed by law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2"/>
          <p:cNvSpPr/>
          <p:nvPr/>
        </p:nvSpPr>
        <p:spPr>
          <a:xfrm>
            <a:off x="228600" y="761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. TAX ISSUES with the BUREAU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AL REVENUE (BI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050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762120" y="274320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5 yea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ax obligations of the PDIC    chargeable to Tax Expenditure Fund (T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053"/>
          <p:cNvSpPr/>
          <p:nvPr/>
        </p:nvSpPr>
        <p:spPr>
          <a:xfrm>
            <a:off x="719280" y="2006640"/>
            <a:ext cx="78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TION FROM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054"/>
          <p:cNvSpPr/>
          <p:nvPr/>
        </p:nvSpPr>
        <p:spPr>
          <a:xfrm>
            <a:off x="914400" y="365760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ear and there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PDIC exempt fro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 ta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 withholding 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T  on assessment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228600" y="7621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I. RECENT LEGISLATIVE AMENDMENTS t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-UP the DI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1523880" y="19051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Issuance of Bonds, Debentures and Other Oblig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43000" y="2971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guaranteed by the Nation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143000" y="3581280"/>
            <a:ext cx="88390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 exceed two times the DIF as of date of the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t issu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762120" y="8380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I. OTHER LEGISLATIVE AMENDM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DING to the BUILD-UP of the DI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0666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 payment  of  deposit  insurance on 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371600" y="3048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Investment produ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90720" y="19051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ity  to   determine   insured   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371600" y="3733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Unfunded, fictitious and fraudulent deposit accounts o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762120" y="8380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I. OTHER LEGISLATIVE AMENDM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DING to the BUILD-UP of the DI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295280" y="2362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ayment of deposit insurance on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143000" y="1752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ity to  determine  insured  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371600" y="52578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  Deposits from proceeds  from  an unlawfu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371600" y="303516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8560" indent="-514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Deposit   accounts   constituting   and/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nating from unsafe and unsound banking practices, after issuance of a cease and desist order by PDIC against such deposit accounts o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62120" y="8380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I. OTHER LEGISLATIVE AMENDM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DING to the BUILD-UP of the DI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514600" y="4800600"/>
            <a:ext cx="3809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diaz@pdic.gov.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2-84148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209680" y="2286000"/>
            <a:ext cx="426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26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28"/>
          <p:cNvSpPr/>
          <p:nvPr/>
        </p:nvSpPr>
        <p:spPr>
          <a:xfrm>
            <a:off x="457200" y="1600200"/>
            <a:ext cx="63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of September 30,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s in Billion p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29"/>
          <p:cNvSpPr/>
          <p:nvPr/>
        </p:nvSpPr>
        <p:spPr>
          <a:xfrm>
            <a:off x="533520" y="7621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30"/>
          <p:cNvSpPr/>
          <p:nvPr/>
        </p:nvSpPr>
        <p:spPr>
          <a:xfrm>
            <a:off x="457200" y="958680"/>
            <a:ext cx="716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. DEPOSIT INSURANCE RISK EXPOSURE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035"/>
          <p:cNvGraphicFramePr/>
          <p:nvPr/>
        </p:nvGraphicFramePr>
        <p:xfrm>
          <a:off x="0" y="1828800"/>
          <a:ext cx="9448920" cy="7543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Object 10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44892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129528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adequacy is essential to ensure that the Corporation can absorb losses arising from bank failures under non-systemic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urance reserves shall be maintained at a reasonable level that ensures capital adequ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sonable level of insurance reserves shall be determined thru a Target Methodology.  It shall be based on the estimated risks posed by member banks to the DI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685800"/>
            <a:ext cx="792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. DEPOSIT INSURANCE RESERVES TAR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639720" y="1447920"/>
            <a:ext cx="786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omposition of Insurance Reserves Targe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5800" y="2209680"/>
            <a:ext cx="786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pecific Reserv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e level of insurance reserves to cove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ticipa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potential losses from banks that have high probability of failu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85800" y="3581280"/>
            <a:ext cx="7894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l Reserv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e minimum level of insurance reserves to cove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nanticipa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losses from deposit insurance payouts and grant of financial assista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 as a percentage of estimated insured deposits (EID) of banks not included in the estimation of specific reserv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09480" y="83808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. THE METHODOLOG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7893000" y="85392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457560" y="230976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in Billion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3520" y="2666880"/>
          <a:ext cx="8343720" cy="2378160"/>
        </p:xfrm>
        <a:graphic>
          <a:graphicData uri="http://schemas.openxmlformats.org/drawingml/2006/table">
            <a:tbl>
              <a:tblPr/>
              <a:tblGrid>
                <a:gridCol w="1579320"/>
                <a:gridCol w="1202040"/>
                <a:gridCol w="1066680"/>
                <a:gridCol w="1587600"/>
                <a:gridCol w="1454040"/>
                <a:gridCol w="14540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 Risk 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W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Reser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s-at- Risk (BAR), Categories 1&amp;2, and Unr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9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65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27"/>
          <p:cNvSpPr/>
          <p:nvPr/>
        </p:nvSpPr>
        <p:spPr>
          <a:xfrm>
            <a:off x="459360" y="1600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imation of SPECIFIC Reser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457200" y="762120"/>
            <a:ext cx="58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I. ESTIMATION of 2009 TAR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685800" y="2666880"/>
          <a:ext cx="7620120" cy="171792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  <a:gridCol w="1905120"/>
                <a:gridCol w="19051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 Risk 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 for General Reser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Reser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es 3, 4 &amp; 5 Ban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87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21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2" name="Text Box 47"/>
          <p:cNvSpPr/>
          <p:nvPr/>
        </p:nvSpPr>
        <p:spPr>
          <a:xfrm>
            <a:off x="613440" y="1600200"/>
            <a:ext cx="48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imation of GENERAL Rese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609840" y="230976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in Billion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5"/>
          <p:cNvSpPr/>
          <p:nvPr/>
        </p:nvSpPr>
        <p:spPr>
          <a:xfrm>
            <a:off x="609480" y="806400"/>
            <a:ext cx="586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I. ESTIMATION of 2009 TAR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838080" y="1884240"/>
          <a:ext cx="6629400" cy="3756240"/>
        </p:xfrm>
        <a:graphic>
          <a:graphicData uri="http://schemas.openxmlformats.org/drawingml/2006/table">
            <a:tbl>
              <a:tblPr/>
              <a:tblGrid>
                <a:gridCol w="4883400"/>
                <a:gridCol w="1746000"/>
              </a:tblGrid>
              <a:tr h="103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Reser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 65.8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Reser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 2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rance Reserves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87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valent Ratio to Insured Depos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8" name="Text Box 24"/>
          <p:cNvSpPr/>
          <p:nvPr/>
        </p:nvSpPr>
        <p:spPr>
          <a:xfrm>
            <a:off x="762120" y="83808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I. ESTIMATION of 2009 RESERVES TAR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762480" y="15238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in Billion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26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027"/>
          <p:cNvGraphicFramePr/>
          <p:nvPr/>
        </p:nvGraphicFramePr>
        <p:xfrm>
          <a:off x="152280" y="914400"/>
          <a:ext cx="8923320" cy="444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0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14400"/>
                    <a:ext cx="892332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1028"/>
          <p:cNvSpPr/>
          <p:nvPr/>
        </p:nvSpPr>
        <p:spPr>
          <a:xfrm>
            <a:off x="152280" y="5335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OSIT INSURANCE F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9 to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Billion Pes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1029"/>
          <p:cNvGraphicFramePr/>
          <p:nvPr/>
        </p:nvGraphicFramePr>
        <p:xfrm>
          <a:off x="133200" y="5334120"/>
          <a:ext cx="8934480" cy="1447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6" name="Object 10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" y="5334120"/>
                    <a:ext cx="89344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9" descr=""/>
          <p:cNvPicPr/>
          <p:nvPr/>
        </p:nvPicPr>
        <p:blipFill>
          <a:blip r:embed="rId6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8:57:05Z</dcterms:created>
  <dc:creator>mgdemesa</dc:creator>
  <dc:description/>
  <dc:language>en-US</dc:language>
  <cp:lastModifiedBy>Pratik Mitra</cp:lastModifiedBy>
  <dcterms:modified xsi:type="dcterms:W3CDTF">2010-01-15T08:02:16Z</dcterms:modified>
  <cp:revision>182</cp:revision>
  <dc:subject/>
  <dc:title>PowerPoint Presentation</dc:title>
</cp:coreProperties>
</file>